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media/image6.gif" ContentType="image/gif"/>
  <Override PartName="/ppt/media/image7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BB2-1705-46C7-9351-00531CA0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53E-335D-4016-9B3C-4180DFC3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212-849E-4BE3-950F-3020EDCD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8C7-7BC8-4B68-9DB0-23FF570F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FA9-09A1-409F-9EB5-EAF745D0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556-D13A-4E00-876B-B826DC39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A56-7CD0-4BFF-9532-7DCC130F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A0F-844F-4B05-94B7-11DF70BB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C49-EE24-4E1D-9F4C-E5FA0D2E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B16-2377-4112-BA7B-23CAB989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AE7-74FA-4E1C-9064-B6447F13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4EA-2A38-41D3-AA00-92A0D4B7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38A4-B008-4865-BB73-BDA0EEC51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ion Verbs – They’re What You D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mmar Grade 2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Symsonia Elementar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Pamela DeBernardi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66680" y="1905120"/>
            <a:ext cx="2819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paddle a bo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C:\WINDOWS\Application Data\Microsoft\Media Catalog\Downloaded Clips\cl5d\j0234678.gif"/>
          <p:cNvPicPr/>
          <p:nvPr/>
        </p:nvPicPr>
        <p:blipFill>
          <a:blip r:embed="rId1"/>
          <a:stretch/>
        </p:blipFill>
        <p:spPr>
          <a:xfrm>
            <a:off x="4419720" y="2895480"/>
            <a:ext cx="3886200" cy="273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533520" y="685800"/>
            <a:ext cx="45720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work at my compu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C:\WINDOWS\Application Data\Microsoft\Media Catalog\Downloaded Clips\cl76\j0295184.gif"/>
          <p:cNvPicPr/>
          <p:nvPr/>
        </p:nvPicPr>
        <p:blipFill>
          <a:blip r:embed="rId1"/>
          <a:stretch/>
        </p:blipFill>
        <p:spPr>
          <a:xfrm>
            <a:off x="4114800" y="3090960"/>
            <a:ext cx="4038480" cy="297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throw a footb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Program Files\Common Files\Microsoft Shared\Clipart\cagcat50\pe01659_.wmf"/>
          <p:cNvPicPr/>
          <p:nvPr/>
        </p:nvPicPr>
        <p:blipFill>
          <a:blip r:embed="rId1"/>
          <a:stretch/>
        </p:blipFill>
        <p:spPr>
          <a:xfrm>
            <a:off x="4724280" y="1793880"/>
            <a:ext cx="3657600" cy="325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609480" y="121932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skate on the 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C:\WINDOWS\Application Data\Microsoft\Media Catalog\Downloaded Clips\cl73\j0288940.gif"/>
          <p:cNvPicPr/>
          <p:nvPr/>
        </p:nvPicPr>
        <p:blipFill>
          <a:blip r:embed="rId1"/>
          <a:stretch/>
        </p:blipFill>
        <p:spPr>
          <a:xfrm>
            <a:off x="4648320" y="2286000"/>
            <a:ext cx="2619360" cy="297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talk to my frie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c:\Program Files\Common Files\Microsoft Shared\Clipart\cagcat50\bd07153_.wmf"/>
          <p:cNvPicPr/>
          <p:nvPr/>
        </p:nvPicPr>
        <p:blipFill>
          <a:blip r:embed="rId1"/>
          <a:stretch/>
        </p:blipFill>
        <p:spPr>
          <a:xfrm>
            <a:off x="5086440" y="1828800"/>
            <a:ext cx="327168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play beautiful mus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c:\Program Files\Common Files\Microsoft Shared\Clipart\cagcat50\en00349_.wmf"/>
          <p:cNvPicPr/>
          <p:nvPr/>
        </p:nvPicPr>
        <p:blipFill>
          <a:blip r:embed="rId1"/>
          <a:stretch/>
        </p:blipFill>
        <p:spPr>
          <a:xfrm>
            <a:off x="4800600" y="1447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914400" y="198108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jump very hig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C:\WINDOWS\Application Data\Microsoft\Media Catalog\Downloaded Clips\cl45\j0174011.gif"/>
          <p:cNvPicPr/>
          <p:nvPr/>
        </p:nvPicPr>
        <p:blipFill>
          <a:blip r:embed="rId1"/>
          <a:stretch/>
        </p:blipFill>
        <p:spPr>
          <a:xfrm>
            <a:off x="4572000" y="2819520"/>
            <a:ext cx="3376440" cy="326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dance graceful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Program Files\Microsoft Office\Clipart\standard\stddir1\bd07078_.wmf"/>
          <p:cNvPicPr/>
          <p:nvPr/>
        </p:nvPicPr>
        <p:blipFill>
          <a:blip r:embed="rId1"/>
          <a:stretch/>
        </p:blipFill>
        <p:spPr>
          <a:xfrm>
            <a:off x="4724280" y="1371600"/>
            <a:ext cx="3583080" cy="3733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read a great bo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c:\Program Files\Microsoft Office\Clipart\standard\stddir1\bd06804_.wmf"/>
          <p:cNvPicPr/>
          <p:nvPr/>
        </p:nvPicPr>
        <p:blipFill>
          <a:blip r:embed="rId1"/>
          <a:stretch/>
        </p:blipFill>
        <p:spPr>
          <a:xfrm>
            <a:off x="5181480" y="1447920"/>
            <a:ext cx="2857680" cy="3352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1:11:56Z</dcterms:created>
  <dc:creator>Graves</dc:creator>
  <dc:description/>
  <dc:language>en-US</dc:language>
  <cp:lastModifiedBy>teacher</cp:lastModifiedBy>
  <dcterms:modified xsi:type="dcterms:W3CDTF">2010-11-01T00:33:22Z</dcterms:modified>
  <cp:revision>4</cp:revision>
  <dc:subject/>
  <dc:title>        Action Verbs – They’re What You Do  Grammar Grade 2       Symsonia Elementary    Pamela DeBernardi                             </dc:title>
</cp:coreProperties>
</file>